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F7F-CFAF-4A7B-BAAD-ED4DAD55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C32-A9B8-4D92-AB7B-9B580D2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195-0BDC-460A-A774-E55B9180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00C-D6B1-4EAB-AE76-1C2491D3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F63-F4E6-4A19-ABDF-00198796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F7B-A3AD-41A2-8D66-94624BF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0DB-53E4-4F02-B526-26AB6F98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03A-3320-45AF-B166-3DE99E33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757-9F54-4D04-BEED-E0826D37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0AC-A226-4CCE-A822-09C2725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FF5-F1EB-4210-BBE7-78354DA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F7F-4BC5-45CB-84B4-3467423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408-FFB8-4A2C-99B7-DC1890B9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leb Mur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Hands over the head is the best method for right now. What about in ten years? Will it still be the best? I’ll follow up o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faster to blow up the balloon when they were standing than it did when they were on their kn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I don’t they took it seriously. I might have not measure all the balloon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probably make them run longer than a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a couple days testing and a week meas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thank Mr. Riffel for letting me do this. Mrs. Calderwood for watching us. My test subjects to for letting me test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39654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352680" y="43243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200400" y="16002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638680" y="3905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body position have on brea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ed to know which breathing method (hands on the knees, or hand behind the head). I heard from all my coaches to put your head. I really want to see which is better. I think it will be fun and interesting to find out. I will use the method that works best in basketball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keeps us alive. People usually said that putting your hands on your knees to breathe but its actually better to put yours hands over you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standing up is the best way for brea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 of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ra sh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in the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m run 2 down back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w in the bal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; bod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;   sam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; how much they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                             1          2 up          3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by                              49        54       39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a H                           48        51    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ys                             60          52        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ylar                            42          50         51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yan                             48          46        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ra                              37          42         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31:57Z</dcterms:created>
  <dc:creator>USD376</dc:creator>
  <dc:description/>
  <dc:language>en-US</dc:language>
  <cp:lastModifiedBy>USD376</cp:lastModifiedBy>
  <dcterms:modified xsi:type="dcterms:W3CDTF">2012-03-23T13:48:56Z</dcterms:modified>
  <cp:revision>4</cp:revision>
  <dc:subject/>
  <dc:title>Science Fair</dc:title>
</cp:coreProperties>
</file>